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4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4EC27-8312-435E-A554-DD8656D3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55EE0-BE76-49AA-B08A-48E8B32F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410FC-B3CE-4EF8-BD57-F20419AB7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A7B8A-1F35-48DA-AE00-7D46C14F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3E95-9520-4F26-BB07-744D0CB97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AF30-ACA8-49A5-A05A-64C3BBE6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4E9E-73C2-40F4-B0EB-13F7337A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E765-CB62-4AFF-9DBB-DAD11C8D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5290-5B8C-4F7C-B749-9F8BABC2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1DB0-F6F4-4D51-A569-57959D0E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4EC4-8B24-4B87-95D0-D6F3F248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53FC3-0588-46BC-A1F8-F302BE61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E4AB-1F21-418D-B0B4-DF97A8EE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3A44-7F7C-4766-89EE-F76DB04F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7E70-8B43-486A-9D52-F310B608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0FDC-C734-492A-8690-66D1D8172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5C1A-0FE3-4B6C-A83E-BEFB7BA21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EABE0-FFDA-4EA0-B708-4ABC54FA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1CA7D-88AB-4FEB-96E0-46A96C05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BA7C9-2B94-4DF6-B837-1C2F8206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7CD52-0B50-4754-975F-88480160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63131-2919-46D5-BB33-DE5EAFA9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D2F76-31E3-4D8E-ADFA-3FF3020A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77768-DB00-4845-8735-254E6F0F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6C26-15F4-4C3D-B52B-52257B65B6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C1FF-4B5C-493D-9C88-FA5062F893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ake a Pictur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6760" y="4386240"/>
            <a:ext cx="2274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m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zegorz B. Blichar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an Ba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 C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a-Ling 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shihito Takab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Nikon FM3A"/>
          <p:cNvPicPr/>
          <p:nvPr/>
        </p:nvPicPr>
        <p:blipFill>
          <a:blip r:embed="rId1"/>
          <a:stretch/>
        </p:blipFill>
        <p:spPr>
          <a:xfrm>
            <a:off x="6781680" y="4419720"/>
            <a:ext cx="20764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2 – Minimize Travel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5257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10 Sites Identified from Part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 Time Spent at each Site for taking pi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14400" y="1843200"/>
            <a:ext cx="5749920" cy="327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2DAFF-87F0-4FC1-8975-D2A2862185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ravel route that minimizes total time, given time spent on site and total availabl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ite is visited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ite is visited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A03AF-0F99-4A9F-B32A-39470D6495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sion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09480" y="1790640"/>
            <a:ext cx="8001000" cy="4162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6508E-4B36-4EE7-8121-D45A643EC1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28600" y="1584360"/>
            <a:ext cx="8686800" cy="45878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228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9D8AD-E6D6-401B-AA60-E41FF4C4F9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4920" y="1320840"/>
            <a:ext cx="8381880" cy="4927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6C4FF-E86A-4631-9812-1E80100550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7010640" cy="3837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60920" y="5029200"/>
            <a:ext cx="1576440" cy="64260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= Each site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visited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5040" y="3978360"/>
            <a:ext cx="1248840" cy="64260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= On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t a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81080" y="4343400"/>
            <a:ext cx="2743200" cy="304920"/>
          </a:xfrm>
          <a:prstGeom prst="ellipse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4343400"/>
            <a:ext cx="533160" cy="152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81080" y="4800600"/>
            <a:ext cx="2743200" cy="228600"/>
          </a:xfrm>
          <a:prstGeom prst="ellipse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752480" y="4876920"/>
            <a:ext cx="228600" cy="4572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B4FC6-4B5D-4FD6-B5DB-5F9DF51090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33520" y="1893960"/>
            <a:ext cx="8153280" cy="3697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088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88AEB-F125-423D-81C6-02EF16E3FD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10480" cy="3032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866880" y="5029200"/>
            <a:ext cx="642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ptimized duration of the visit of the t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most important NYC sites is 412.5 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437C6-8314-443A-BF37-258FC8DA85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Enjoy Your Journe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panese tourist visiting NYC for one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s to take photographs at as many  famous NYC sites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NYU Professor - Juran’s H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roach - Maximize Utility from 30 possible sites to vis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roach – Minimize Time taken to visit top 10 sights identifi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the tourist choose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hts and plan the itinera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467480" y="1447920"/>
            <a:ext cx="1293840" cy="1981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V="1">
            <a:off x="7467480" y="3733920"/>
            <a:ext cx="60984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8076960" y="3733920"/>
            <a:ext cx="68580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718400" y="4038480"/>
            <a:ext cx="739800" cy="990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B4FC6-38BC-4E81-9B54-8B0F1C51B8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is not a constraint for the tou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urist has up to 14 hours per day for traveling and time spent on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or only takes pictures, therefore time spent at each site is short (15-30 minu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urist rents a Limo (no waiting tim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h hour travel time is 2x slower than normal h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urist begins from and ends at The Plaza Ho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98E1B-748B-4177-9AA2-E58F28C746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preferences to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1: Choose 10 sites that maximizes utility based on tourist’s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2: Minimize time trave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est path problem between all 10 sites ident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6EACF-94B3-4968-A4FF-B1B7AA5D46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York City Grid M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5 Streets referenced on Y ax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 Avenues on X axis (12 for Manhattan, 3 for Brookly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2362320"/>
            <a:ext cx="7620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cerpt from Mid-Tow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4920" y="2809800"/>
            <a:ext cx="8381880" cy="381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D0FF6-AB58-4012-87EC-0FA4B97990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1 – Site Ident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op 10 sites from list of 30 New York tourist at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rist’s Parameters for Site Ra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rity in 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ural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al heri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tige/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n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0C6DA-A496-4CEB-97A0-3F3129AED2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1338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8600" y="2819520"/>
            <a:ext cx="129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297180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05920" y="297180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8382240" cy="23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6D766-1672-49AD-BF9B-C2446DB99E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 Method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10666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ize attribute level of 10 sites 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14600" y="2625840"/>
            <a:ext cx="6248520" cy="3419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4114800"/>
            <a:ext cx="1739880" cy="64260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Parameter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Site ra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4556160"/>
            <a:ext cx="2743200" cy="228600"/>
          </a:xfrm>
          <a:prstGeom prst="ellipse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4327560"/>
            <a:ext cx="75960" cy="304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4937040"/>
            <a:ext cx="1828800" cy="228600"/>
          </a:xfrm>
          <a:prstGeom prst="ellipse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209680" y="5013360"/>
            <a:ext cx="228600" cy="4572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51040" y="5367240"/>
            <a:ext cx="1358640" cy="9169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Arial"/>
              </a:rPr>
              <a:t>Exactly 10 Sites are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F9B60-D59A-4BE6-A3A0-199B70BCE3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timal Solution -  Top 10 s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9381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38080" y="304812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05920" y="304812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7200" y="3995640"/>
            <a:ext cx="8229600" cy="21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FF68A-4F8A-458B-9D37-F5410F036A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8T22:41:07Z</dcterms:created>
  <dc:creator>Stern</dc:creator>
  <dc:description/>
  <dc:language>en-US</dc:language>
  <cp:lastModifiedBy>baseuser</cp:lastModifiedBy>
  <dcterms:modified xsi:type="dcterms:W3CDTF">2003-12-01T13:52:25Z</dcterms:modified>
  <cp:revision>19</cp:revision>
  <dc:subject/>
  <dc:title>Slide 1</dc:title>
</cp:coreProperties>
</file>